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949-A091-4000-96A6-9522FF9C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8D8-994E-462D-9414-D729C8FD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FD4-B296-460B-B797-DAD90F1E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3EE-C44B-4107-AEE5-9F506FB3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E0F-E781-47C1-ADC4-883AA99B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483-F431-42E9-83A9-99D3AFA2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C73-D8BD-4D94-9336-AA6B6212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6C6-A1C1-4810-99CA-4823FB2A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7CE-CDEA-4154-9264-107A3D97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B58-8AB5-4FA1-91A9-BDCCAD73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8E9-2256-4932-8495-613B3B12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217-EF1A-4599-A864-6E2A88F4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8D39-8393-44C7-ABA0-125AA382F3A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fonía Pastoral.mp3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6"/>
          <p:cNvGrpSpPr/>
          <p:nvPr/>
        </p:nvGrpSpPr>
        <p:grpSpPr>
          <a:xfrm>
            <a:off x="3200400" y="533520"/>
            <a:ext cx="4648320" cy="5656320"/>
            <a:chOff x="3200400" y="533520"/>
            <a:chExt cx="4648320" cy="5656320"/>
          </a:xfrm>
        </p:grpSpPr>
        <p:pic>
          <p:nvPicPr>
            <p:cNvPr id="43" name="Picture 4" descr="C:\Chollo\CULTURA CLÁSICA\Beethoven, L. van.jpg"/>
            <p:cNvPicPr/>
            <p:nvPr/>
          </p:nvPicPr>
          <p:blipFill>
            <a:blip r:embed="rId2"/>
            <a:stretch/>
          </p:blipFill>
          <p:spPr>
            <a:xfrm>
              <a:off x="3809880" y="533520"/>
              <a:ext cx="342900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3200400" y="4876920"/>
              <a:ext cx="464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Thehits"/>
                </a:rPr>
                <a:t>LUDWIG VAN BEETHOVE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027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Ulis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Ulises (español).mp3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Chollo\CULTURA CLÁSICA\Ulysses.gif"/>
          <p:cNvPicPr/>
          <p:nvPr/>
        </p:nvPicPr>
        <p:blipFill>
          <a:blip r:embed="rId3"/>
          <a:stretch/>
        </p:blipFill>
        <p:spPr>
          <a:xfrm>
            <a:off x="2743200" y="990720"/>
            <a:ext cx="3933720" cy="4890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341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252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hungry.wav" descr=""/>
          <p:cNvPicPr/>
          <p:nvPr/>
        </p:nvPicPr>
        <p:blipFill>
          <a:blip r:embed="rId1"/>
          <a:stretch/>
        </p:blipFill>
        <p:spPr>
          <a:xfrm>
            <a:off x="7010280" y="2209680"/>
            <a:ext cx="19051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609480" y="304920"/>
            <a:ext cx="6324840" cy="6265800"/>
            <a:chOff x="609480" y="304920"/>
            <a:chExt cx="6324840" cy="6265800"/>
          </a:xfrm>
        </p:grpSpPr>
        <p:pic>
          <p:nvPicPr>
            <p:cNvPr id="83" name="Picture 3" descr="C:\Chollo\CULTURA CLÁSICA\que el viento se llevó, Lo.jpg"/>
            <p:cNvPicPr/>
            <p:nvPr/>
          </p:nvPicPr>
          <p:blipFill>
            <a:blip r:embed="rId2"/>
            <a:stretch/>
          </p:blipFill>
          <p:spPr>
            <a:xfrm>
              <a:off x="1066680" y="304920"/>
              <a:ext cx="5519880" cy="42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609480" y="4648320"/>
              <a:ext cx="6324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Love"/>
                </a:rPr>
                <a:t>LO QUE EL VIENTO SE LLEVÓ / FOISE CO VENT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4863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Negra sombra.mp3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19810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3886200" y="609480"/>
            <a:ext cx="4419720" cy="5961240"/>
            <a:chOff x="3886200" y="609480"/>
            <a:chExt cx="4419720" cy="5961240"/>
          </a:xfrm>
        </p:grpSpPr>
        <p:pic>
          <p:nvPicPr>
            <p:cNvPr id="87" name="Picture 3" descr="C:\Chollo\CULTURA CLÁSICA\De Castro, R.jpg"/>
            <p:cNvPicPr/>
            <p:nvPr/>
          </p:nvPicPr>
          <p:blipFill>
            <a:blip r:embed="rId2"/>
            <a:stretch/>
          </p:blipFill>
          <p:spPr>
            <a:xfrm>
              <a:off x="4419720" y="609480"/>
              <a:ext cx="331776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4"/>
            <p:cNvSpPr/>
            <p:nvPr/>
          </p:nvSpPr>
          <p:spPr>
            <a:xfrm>
              <a:off x="3886200" y="525780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ernard MT Condensed"/>
                </a:rPr>
                <a:t>ROSALÍA DE CASTR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128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nderful World.mp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5"/>
          <p:cNvGrpSpPr/>
          <p:nvPr/>
        </p:nvGrpSpPr>
        <p:grpSpPr>
          <a:xfrm>
            <a:off x="3352680" y="762120"/>
            <a:ext cx="4592880" cy="5488200"/>
            <a:chOff x="3352680" y="762120"/>
            <a:chExt cx="4592880" cy="5488200"/>
          </a:xfrm>
        </p:grpSpPr>
        <p:pic>
          <p:nvPicPr>
            <p:cNvPr id="91" name="Picture 3" descr="C:\Chollo\CULTURA CLÁSICA\Cooke, S.gif"/>
            <p:cNvPicPr/>
            <p:nvPr/>
          </p:nvPicPr>
          <p:blipFill>
            <a:blip r:embed="rId2"/>
            <a:stretch/>
          </p:blipFill>
          <p:spPr>
            <a:xfrm>
              <a:off x="3352680" y="762120"/>
              <a:ext cx="459288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3429000" y="5546880"/>
              <a:ext cx="441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pperplate Gothic Bold"/>
                </a:rPr>
                <a:t>SAM COOK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2494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weet Little Angel.mp3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"/>
          <p:cNvGrpSpPr/>
          <p:nvPr/>
        </p:nvGrpSpPr>
        <p:grpSpPr>
          <a:xfrm>
            <a:off x="1219320" y="609480"/>
            <a:ext cx="4419360" cy="5640840"/>
            <a:chOff x="1219320" y="609480"/>
            <a:chExt cx="4419360" cy="5640840"/>
          </a:xfrm>
        </p:grpSpPr>
        <p:pic>
          <p:nvPicPr>
            <p:cNvPr id="95" name="Picture 3" descr="C:\Chollo\CULTURA CLÁSICA\King, B. B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20696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1219320" y="5546880"/>
              <a:ext cx="44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Kristen ITC"/>
                </a:rPr>
                <a:t>B. B. K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5688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arthquake 2.mp3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752480" cy="1752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"/>
          <p:cNvGrpSpPr/>
          <p:nvPr/>
        </p:nvGrpSpPr>
        <p:grpSpPr>
          <a:xfrm>
            <a:off x="2514600" y="457200"/>
            <a:ext cx="6134040" cy="5793120"/>
            <a:chOff x="2514600" y="457200"/>
            <a:chExt cx="6134040" cy="5793120"/>
          </a:xfrm>
        </p:grpSpPr>
        <p:pic>
          <p:nvPicPr>
            <p:cNvPr id="99" name="Picture 3" descr="C:\Chollo\CULTURA CLÁSICA\Pompeya.gif"/>
            <p:cNvPicPr/>
            <p:nvPr/>
          </p:nvPicPr>
          <p:blipFill>
            <a:blip r:embed="rId2"/>
            <a:stretch/>
          </p:blipFill>
          <p:spPr>
            <a:xfrm>
              <a:off x="2514600" y="457200"/>
              <a:ext cx="6134040" cy="49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"/>
            <p:cNvSpPr/>
            <p:nvPr/>
          </p:nvSpPr>
          <p:spPr>
            <a:xfrm>
              <a:off x="2590920" y="55468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Petra"/>
                </a:rPr>
                <a:t>POMPEI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781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he Loves You.mp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479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1219320" y="1447920"/>
            <a:ext cx="5130720" cy="4818240"/>
            <a:chOff x="1219320" y="1447920"/>
            <a:chExt cx="5130720" cy="4818240"/>
          </a:xfrm>
        </p:grpSpPr>
        <p:pic>
          <p:nvPicPr>
            <p:cNvPr id="47" name="Picture 3" descr="C:\Chollo\CULTURA CLÁSICA\Beatles.jpg"/>
            <p:cNvPicPr/>
            <p:nvPr/>
          </p:nvPicPr>
          <p:blipFill>
            <a:blip r:embed="rId2"/>
            <a:stretch/>
          </p:blipFill>
          <p:spPr>
            <a:xfrm>
              <a:off x="1295280" y="1447920"/>
              <a:ext cx="5054760" cy="37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1219320" y="5562720"/>
              <a:ext cx="510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Forte"/>
                </a:rPr>
                <a:t>THE BEATL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226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líada (orixinal).mp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Ilíada (galego).mp3" descr=""/>
          <p:cNvPicPr/>
          <p:nvPr/>
        </p:nvPicPr>
        <p:blipFill>
          <a:blip r:embed="rId2"/>
          <a:stretch/>
        </p:blipFill>
        <p:spPr>
          <a:xfrm>
            <a:off x="7086600" y="4952880"/>
            <a:ext cx="1523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6"/>
          <p:cNvGrpSpPr/>
          <p:nvPr/>
        </p:nvGrpSpPr>
        <p:grpSpPr>
          <a:xfrm>
            <a:off x="3124080" y="533520"/>
            <a:ext cx="2962440" cy="5656320"/>
            <a:chOff x="3124080" y="533520"/>
            <a:chExt cx="2962440" cy="5656320"/>
          </a:xfrm>
        </p:grpSpPr>
        <p:pic>
          <p:nvPicPr>
            <p:cNvPr id="52" name="Picture 4" descr="C:\Chollo\CULTURA CLÁSICA\Ilíada.jpg"/>
            <p:cNvPicPr/>
            <p:nvPr/>
          </p:nvPicPr>
          <p:blipFill>
            <a:blip r:embed="rId3"/>
            <a:stretch/>
          </p:blipFill>
          <p:spPr>
            <a:xfrm>
              <a:off x="3200400" y="533520"/>
              <a:ext cx="2886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"/>
            <p:cNvSpPr/>
            <p:nvPr/>
          </p:nvSpPr>
          <p:spPr>
            <a:xfrm>
              <a:off x="3124080" y="5486400"/>
              <a:ext cx="289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Castellar"/>
                </a:rPr>
                <a:t>A ILÍA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65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789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Quijote (principio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Chollo\CULTURA CLÁSICA\Quijote, El.jpg"/>
          <p:cNvPicPr/>
          <p:nvPr/>
        </p:nvPicPr>
        <p:blipFill>
          <a:blip r:embed="rId2"/>
          <a:stretch/>
        </p:blipFill>
        <p:spPr>
          <a:xfrm>
            <a:off x="3962520" y="1066680"/>
            <a:ext cx="318924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502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lagueña.mp3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765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1371600" y="609480"/>
            <a:ext cx="4419720" cy="5808960"/>
            <a:chOff x="1371600" y="609480"/>
            <a:chExt cx="4419720" cy="5808960"/>
          </a:xfrm>
        </p:grpSpPr>
        <p:pic>
          <p:nvPicPr>
            <p:cNvPr id="58" name="Picture 3" descr="C:\Chollo\CULTURA CLÁSICA\Guitarra clásica.jpg"/>
            <p:cNvPicPr/>
            <p:nvPr/>
          </p:nvPicPr>
          <p:blipFill>
            <a:blip r:embed="rId2"/>
            <a:stretch/>
          </p:blipFill>
          <p:spPr>
            <a:xfrm>
              <a:off x="1447920" y="609480"/>
              <a:ext cx="43434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1371600" y="510552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radley Hand ITC"/>
                </a:rPr>
                <a:t>GUITARRA CLÁSIC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6806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ócrat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Sócrates (galego).mp3" descr=""/>
          <p:cNvPicPr/>
          <p:nvPr/>
        </p:nvPicPr>
        <p:blipFill>
          <a:blip r:embed="rId2"/>
          <a:stretch/>
        </p:blipFill>
        <p:spPr>
          <a:xfrm>
            <a:off x="7391520" y="5181480"/>
            <a:ext cx="14475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7"/>
          <p:cNvGrpSpPr/>
          <p:nvPr/>
        </p:nvGrpSpPr>
        <p:grpSpPr>
          <a:xfrm>
            <a:off x="3162240" y="1143000"/>
            <a:ext cx="2971800" cy="5504040"/>
            <a:chOff x="3162240" y="1143000"/>
            <a:chExt cx="2971800" cy="5504040"/>
          </a:xfrm>
        </p:grpSpPr>
        <p:pic>
          <p:nvPicPr>
            <p:cNvPr id="63" name="Picture 4" descr="C:\Chollo\CULTURA CLÁSICA\Sócrates.gif"/>
            <p:cNvPicPr/>
            <p:nvPr/>
          </p:nvPicPr>
          <p:blipFill>
            <a:blip r:embed="rId3"/>
            <a:stretch/>
          </p:blipFill>
          <p:spPr>
            <a:xfrm>
              <a:off x="3162240" y="1143000"/>
              <a:ext cx="29718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3276720" y="5334120"/>
              <a:ext cx="2666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istral"/>
                </a:rPr>
                <a:t>SÓCRA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522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84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tairway To Heaven.mp3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7524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"/>
          <p:cNvGrpSpPr/>
          <p:nvPr/>
        </p:nvGrpSpPr>
        <p:grpSpPr>
          <a:xfrm>
            <a:off x="3352680" y="609480"/>
            <a:ext cx="5181840" cy="5199480"/>
            <a:chOff x="3352680" y="609480"/>
            <a:chExt cx="5181840" cy="5199480"/>
          </a:xfrm>
        </p:grpSpPr>
        <p:pic>
          <p:nvPicPr>
            <p:cNvPr id="67" name="Picture 3" descr="C:\Chollo\CULTURA CLÁSICA\Led Zeppelin.jpg"/>
            <p:cNvPicPr/>
            <p:nvPr/>
          </p:nvPicPr>
          <p:blipFill>
            <a:blip r:embed="rId2"/>
            <a:stretch/>
          </p:blipFill>
          <p:spPr>
            <a:xfrm>
              <a:off x="3352680" y="609480"/>
              <a:ext cx="512136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4"/>
            <p:cNvSpPr/>
            <p:nvPr/>
          </p:nvSpPr>
          <p:spPr>
            <a:xfrm>
              <a:off x="3352680" y="5105520"/>
              <a:ext cx="518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Impact"/>
                </a:rPr>
                <a:t>LED ZEPPEL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8013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neida (orixinal).mp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Eneida (galego).mp3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524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8"/>
          <p:cNvGrpSpPr/>
          <p:nvPr/>
        </p:nvGrpSpPr>
        <p:grpSpPr>
          <a:xfrm>
            <a:off x="3429000" y="1219320"/>
            <a:ext cx="2514600" cy="5503680"/>
            <a:chOff x="3429000" y="1219320"/>
            <a:chExt cx="2514600" cy="5503680"/>
          </a:xfrm>
        </p:grpSpPr>
        <p:pic>
          <p:nvPicPr>
            <p:cNvPr id="72" name="Picture 6" descr="C:\Chollo\CULTURA CLÁSICA\Eneida.jpg"/>
            <p:cNvPicPr/>
            <p:nvPr/>
          </p:nvPicPr>
          <p:blipFill>
            <a:blip r:embed="rId3"/>
            <a:stretch/>
          </p:blipFill>
          <p:spPr>
            <a:xfrm>
              <a:off x="3505320" y="1219320"/>
              <a:ext cx="230328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3429000" y="5410080"/>
              <a:ext cx="2514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lonna MT"/>
                </a:rPr>
                <a:t>A ENEI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113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215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 Get A Kick Out Of You.mp3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1066680" y="609480"/>
            <a:ext cx="4724640" cy="5808960"/>
            <a:chOff x="1066680" y="609480"/>
            <a:chExt cx="4724640" cy="5808960"/>
          </a:xfrm>
        </p:grpSpPr>
        <p:pic>
          <p:nvPicPr>
            <p:cNvPr id="76" name="Picture 3" descr="C:\Chollo\CULTURA CLÁSICA\Armstrong, Louis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343400" cy="43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4"/>
            <p:cNvSpPr/>
            <p:nvPr/>
          </p:nvSpPr>
          <p:spPr>
            <a:xfrm>
              <a:off x="1066680" y="5105520"/>
              <a:ext cx="472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agneto"/>
                </a:rPr>
                <a:t>LOUIS ARMSTRO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5924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7:39:38Z</dcterms:created>
  <dc:creator>CARBALLO</dc:creator>
  <dc:description/>
  <dc:language>en-US</dc:language>
  <cp:lastModifiedBy>Usuario</cp:lastModifiedBy>
  <dcterms:modified xsi:type="dcterms:W3CDTF">2020-09-04T09:54:47Z</dcterms:modified>
  <cp:revision>4</cp:revision>
  <dc:subject/>
  <dc:title>Presentación de PowerPoint</dc:title>
</cp:coreProperties>
</file>